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6C7-9ACB-4159-9939-A69B75EA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EB91-432E-4385-8864-A14FD3F7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DF55-C5BC-4BE8-B686-9A2C4F98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DF0-2442-46D0-A8BA-557E1EDF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DB62-CC69-44A9-8732-FE450AD5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41F6-DCA8-43D6-B5AA-3E6BE7EB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7167-EBD7-4A35-A03F-6192C36A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FF36-8A68-4E64-88A6-B88E6A4E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6BDB-71D7-4052-A80B-B7112C87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A899-95E8-4412-B901-353F2F5E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C4D4-210B-4E8B-A124-494C5E97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16C0-2B9D-4318-A4C6-71DE4687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D625-3CD6-4167-AC8C-88D3CF1F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4429-7F33-4C2B-84BD-CC857054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82F9-059C-4316-AEC5-E31599E0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6AF4-926A-40F8-B73A-B3D380D1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2D00-19F9-4999-B86D-1FE58413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36E-044C-4C41-9AD9-E7BB5BF4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F31-A299-427D-88E0-B7D83633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458-84AF-47BB-8CD2-CE7D3E3F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27E3-4712-40C1-9998-0F6FCA9D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2325-11F2-429F-B0B1-BEC86FE1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1DAF-7C93-466C-B804-5C443CDC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2461-36D0-4980-B6E6-15DC48EA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5289-6B5B-45BC-8778-0B901CB377A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A339-E6AE-408A-84B9-C83BC9EEE70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ook Antiqua"/>
              </a:rPr>
              <a:t>Resistance</a:t>
            </a:r>
            <a:endParaRPr b="0" lang="en-US" sz="6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type of organism do they targe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acteri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do they do to be effectiv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ontrol Growt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ill bacteri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 aren’t they effectiv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iruses – use antivira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de-spectru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n target many different kinds of bacteri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rrow-spectru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n target only specific types of bacteria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y does this matter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7200" y="103320"/>
            <a:ext cx="8229600" cy="171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mply, antibiotic-resistant bacteria are bacteria that are able to defend themselves from antibiotic agent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utati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me are naturally resistan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me bacteria pass genetic information between each other for surviva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asically, listen to your prescribing doctor’s instructions.  If there are questions, there is no one better to go to than your docto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kipedia is not a reliable source.  Don’t go to it for instructions of how to use antibiotic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on’t waver from doctor’s order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general prescription lasts sixty day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7:41:03Z</dcterms:created>
  <dc:creator>John</dc:creator>
  <dc:description/>
  <dc:language>en-US</dc:language>
  <cp:lastModifiedBy>John</cp:lastModifiedBy>
  <dcterms:modified xsi:type="dcterms:W3CDTF">2012-04-17T13:40:23Z</dcterms:modified>
  <cp:revision>5</cp:revision>
  <dc:subject/>
  <dc:title>PowerPoint Presentation</dc:title>
</cp:coreProperties>
</file>